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7.wmf" ContentType="image/x-wmf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6.wmf" ContentType="image/x-wmf"/>
  <Override PartName="/ppt/media/image19.jpeg" ContentType="image/jpeg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A22-F595-499C-8F1F-CBFD048E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998-3EE0-4C53-A54F-3611CC42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8A2-0816-48F5-8387-238D607E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579-AFBF-48C0-B46D-204DE8D6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0F0-157C-4E52-9E50-2E54DB5B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C8A-2C73-4AC7-9AD0-44823148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9C1-4432-4C56-8A46-4B0B45EE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D75-76D7-43D0-B2B7-9C3A9134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792-D133-44D2-B877-AEBCF870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765-4A01-4E57-9B11-493C30F3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D2F-3AC4-40EF-A208-9E2C2F2C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7BA-E51B-455F-943D-3C42FF15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58BE-38FB-44ED-A892-31214B90F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14300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66ff"/>
                </a:solidFill>
                <a:latin typeface="Franklin Gothic Medium Cond"/>
              </a:rPr>
              <a:t>NYC</a:t>
            </a:r>
            <a:r>
              <a:rPr b="0" lang="en-US" sz="8000" spc="-1" strike="noStrike">
                <a:solidFill>
                  <a:srgbClr val="ff0000"/>
                </a:solidFill>
                <a:latin typeface="Franklin Gothic Medium Cond"/>
              </a:rPr>
              <a:t>2</a:t>
            </a:r>
            <a:r>
              <a:rPr b="0" lang="en-US" sz="8000" spc="-1" strike="noStrike">
                <a:solidFill>
                  <a:srgbClr val="00ffff"/>
                </a:solidFill>
                <a:latin typeface="Franklin Gothic Medium Cond"/>
              </a:rPr>
              <a:t>0</a:t>
            </a:r>
            <a:r>
              <a:rPr b="0" lang="en-US" sz="8000" spc="-1" strike="noStrike">
                <a:solidFill>
                  <a:srgbClr val="ffcc00"/>
                </a:solidFill>
                <a:latin typeface="Franklin Gothic Medium Cond"/>
              </a:rPr>
              <a:t>1</a:t>
            </a:r>
            <a:r>
              <a:rPr b="0" lang="en-US" sz="8000" spc="-1" strike="noStrike">
                <a:solidFill>
                  <a:srgbClr val="00cc00"/>
                </a:solidFill>
                <a:latin typeface="Franklin Gothic Medium Cond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36232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438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al Estate 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881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 Ganci     Rebecca Horan     Dana Meir     Edward Mielke     Lainie Spie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6019920"/>
            <a:ext cx="4608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6019920"/>
            <a:ext cx="4608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64200" y="6019920"/>
            <a:ext cx="4608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6019920"/>
            <a:ext cx="4608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3809880"/>
            <a:ext cx="838440" cy="762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809880"/>
            <a:ext cx="838440" cy="762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809880"/>
            <a:ext cx="83844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4343400"/>
            <a:ext cx="838440" cy="76212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343400"/>
            <a:ext cx="838440" cy="7621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Assumption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951200"/>
            <a:ext cx="708660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d same sales price appreciation rates for each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properties regardless of neighbor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d 4% increase in rent each year regardless o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hood (based on rent control allowable increase)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prices of apartments (purchase and rental)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d on current data for each neighbor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38560" y="5022720"/>
            <a:ext cx="474804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Model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1951200"/>
            <a:ext cx="708660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real estate prices in each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hoods, historical appreciation rates, pri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eciation in rentals due to Olym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PROCESSING – Crystal 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0 trials using random variable to predic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eciation rates in the next eights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cast of appreciation with and without Olymp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Crystal Ball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981080"/>
            <a:ext cx="70866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257800" y="1981080"/>
            <a:ext cx="38862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4343400"/>
            <a:ext cx="38862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4343400"/>
            <a:ext cx="40384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1981080"/>
            <a:ext cx="40384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Crystal Ball Results, 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1523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 – with Olym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2041560"/>
            <a:ext cx="4038480" cy="2065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181480" y="2057400"/>
            <a:ext cx="4038840" cy="206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4379760"/>
            <a:ext cx="4038480" cy="2065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181480" y="4411800"/>
            <a:ext cx="40388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Data Output – Foreca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1676520"/>
            <a:ext cx="739152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73152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19320" y="1724040"/>
            <a:ext cx="777240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here is no clear winn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Olympic effect” on rentals is minimal and is diluted b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 of the cash flows over the course of our investm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a result, little difference in IRR for each sce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ardless of neighborhood cho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YC real estate appears to be a great investment regardless of 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ular event such as the Olym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term, construction in and around Olympic venues could impact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of real estate, but we have no reliable way of predicting the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ould ultimately base our purchase decision on the amoun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ital we have available for this ven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6332400">
            <a:off x="6765120" y="1233720"/>
            <a:ext cx="3112920" cy="339840"/>
          </a:xfrm>
          <a:custGeom>
            <a:avLst/>
            <a:gdLst>
              <a:gd name="textAreaLeft" fmla="*/ 0 w 3112920"/>
              <a:gd name="textAreaRight" fmla="*/ 3113280 w 3112920"/>
              <a:gd name="textAreaTop" fmla="*/ 43920 h 339840"/>
              <a:gd name="textAreaBottom" fmla="*/ 295920 h 339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7093800">
            <a:off x="7118280" y="1269000"/>
            <a:ext cx="3124440" cy="315720"/>
          </a:xfrm>
          <a:custGeom>
            <a:avLst/>
            <a:gdLst>
              <a:gd name="textAreaLeft" fmla="*/ 0 w 3124440"/>
              <a:gd name="textAreaRight" fmla="*/ 3124800 w 3124440"/>
              <a:gd name="textAreaTop" fmla="*/ 40680 h 315720"/>
              <a:gd name="textAreaBottom" fmla="*/ 275040 h 315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410600">
            <a:off x="7315200" y="2590920"/>
            <a:ext cx="99072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ich is our Gold Medal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38920" y="1828800"/>
            <a:ext cx="2381400" cy="2981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15000" y="4505400"/>
            <a:ext cx="3619440" cy="2581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18288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895480" y="-228600"/>
            <a:ext cx="3619800" cy="2562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209680" y="4419720"/>
            <a:ext cx="3619800" cy="3228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524560" y="-76320"/>
            <a:ext cx="3619440" cy="2143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-380880" y="4419720"/>
            <a:ext cx="3619440" cy="2676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-304920" y="2362320"/>
            <a:ext cx="3619800" cy="2066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-228600" y="0"/>
            <a:ext cx="3619440" cy="2371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3200400" y="1981080"/>
            <a:ext cx="3619440" cy="2476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0"/>
            <a:ext cx="9144000" cy="749736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6680" y="1447920"/>
            <a:ext cx="8229600" cy="54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577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1986120"/>
            <a:ext cx="6476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Background:  NYC2012 Olympic 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Model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 Gold Medal W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9320" y="5778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2012 Olympics: New York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1917720"/>
            <a:ext cx="70866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York City is one of 5 candidates (including Par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don, Moscow, and Madrid) to host the 2012 Summ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ym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ternational Olympic Committee will announce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oice in July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New York City wins, the Olympic events will be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ong an X-shaped plan that runs through all 5 borough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New Jers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ing ceremonies will be held July 27, 2012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ing Ceremonies will be August 12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3880" y="304920"/>
            <a:ext cx="74678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The Scenar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Our Real Estate Invest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1812960"/>
            <a:ext cx="71629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ould like to purchase a 2-bedroom luxury New York City apartment in January 2005, rent it out before and during the NYC 2012 Olympics, and sell it in January 20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kind of effect would NYC Olympic Games have on rental and sale pri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“Olympic neighborhood” should we invest in to get the best return on our invest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18740" t="13761" r="35509" b="18494"/>
          <a:stretch/>
        </p:blipFill>
        <p:spPr>
          <a:xfrm>
            <a:off x="1065240" y="1293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66680" y="3207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ighborhoods we are considering al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Olympic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505320"/>
            <a:ext cx="609480" cy="60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6685" t="0" r="82234" b="0"/>
          <a:stretch/>
        </p:blipFill>
        <p:spPr>
          <a:xfrm>
            <a:off x="0" y="33480"/>
            <a:ext cx="1143000" cy="1261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295280"/>
            <a:ext cx="929628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783800">
            <a:off x="7619400" y="489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rest H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543440" y="4800240"/>
            <a:ext cx="106668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1523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st Side, Manhat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1981080"/>
            <a:ext cx="1143000" cy="1676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533000">
            <a:off x="6095520" y="548604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lliam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600" y="4495680"/>
            <a:ext cx="129528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767200">
            <a:off x="5443560" y="25682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ng Island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314680" y="3124080"/>
            <a:ext cx="114300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4114800"/>
            <a:ext cx="609480" cy="60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276720"/>
            <a:ext cx="609480" cy="60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4114800"/>
            <a:ext cx="609840" cy="60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For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1917720"/>
            <a:ext cx="708660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the best neighborhood in which to purchase and 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 our apartment in order to maximize the return on our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For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1917720"/>
            <a:ext cx="708660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NYC neighborhood(s) to purchase and rent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artmen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 side of Manhat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st Hills, Qu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Island City, Qu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sburg, Brookl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For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1917720"/>
            <a:ext cx="708660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RANDOM VAR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eciation rates for the next eight years based on historical appreciation over the last nine years in NYC real estate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76520" y="3922560"/>
            <a:ext cx="4268520" cy="2416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248520" y="396252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 Crystal Ball was used to generate a random number and then vlookup was used  to find the corresponding apprecia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Assumptions and Inp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938240"/>
            <a:ext cx="708660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NYC hosts, rental prices during 17 days of Games wi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between 300 - 600%, depending o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rate percentages for each neighborh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d by convenience of location and proximity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tainment and sporting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21:47:35Z</dcterms:created>
  <dc:creator>Preferred Customer</dc:creator>
  <dc:description/>
  <dc:language>en-US</dc:language>
  <cp:lastModifiedBy>Preferred Customer</cp:lastModifiedBy>
  <dcterms:modified xsi:type="dcterms:W3CDTF">2004-11-29T02:33:27Z</dcterms:modified>
  <cp:revision>103</cp:revision>
  <dc:subject/>
  <dc:title>Slide 1</dc:title>
</cp:coreProperties>
</file>